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0F983-70E6-43B0-B062-E69EF35A0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002BC-A25F-4EC9-B376-65E5D7F3E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06994-0211-41B4-B4DA-6382DE6F0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E5D90-CE2E-4185-8AA7-AD3BDE6E8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EB5D6-75EB-4636-978C-23FBCB635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303DF-FDC7-452B-ADA0-D5CBB3CCF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78D80-09BA-483F-9F46-E2F641227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383FB-AA6A-4642-9434-C13572F19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B9917-7B7B-4F76-9E8C-D5013A5B9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4CD30-22F0-41AD-9E4F-311360721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413F4-E8CF-4D90-A692-D8E029FCC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5E2E3-C62E-4CEE-BC1F-A45C9F2D3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90341-81D1-4005-BA1E-6EB56B842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EA2EB-0245-4033-8861-3C32B9EF9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530E9-83B1-4235-9AF6-254F11DFE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462D6-5C48-4150-8B26-A9BB895CA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3B176-03EB-4EAE-8CA9-BA5034089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128F1-CD04-4D89-A46C-7279475E1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84E62-BA49-451A-A339-7684EC25A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3FA11-EBF6-4F0E-AD52-DF93D26BB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889CC-10BC-45BD-B0C4-066943389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D7D24-F0D8-459E-B332-2B5907600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62B34-B612-4532-B2F9-2A70F7A08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18611-6995-479D-8497-3DF422CE3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28544-05F2-428A-B8C2-24C4A9D69DF9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7236000" y="333360"/>
            <a:ext cx="1512720" cy="977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539640" y="6237360"/>
            <a:ext cx="5400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CIVL Plenary 2006, Lausan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DFB9D-A36C-4636-B906-4D85D4AA899A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7020000" y="189000"/>
            <a:ext cx="1512720" cy="9777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5000" spc="-1" strike="noStrike">
                <a:solidFill>
                  <a:srgbClr val="006633"/>
                </a:solidFill>
                <a:latin typeface="Garamond"/>
              </a:rPr>
              <a:t>CIVL Competition Software and database 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800" spc="-1" strike="noStrike">
                <a:solidFill>
                  <a:srgbClr val="000000"/>
                </a:solidFill>
                <a:latin typeface="Arial"/>
              </a:rPr>
              <a:t>Agust Gudmunds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800" spc="-1" strike="noStrike">
                <a:solidFill>
                  <a:srgbClr val="000000"/>
                </a:solidFill>
                <a:latin typeface="Arial"/>
              </a:rPr>
              <a:t>Vice-Presi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800" spc="-1" strike="noStrike">
                <a:solidFill>
                  <a:srgbClr val="000000"/>
                </a:solidFill>
                <a:latin typeface="Arial"/>
              </a:rPr>
              <a:t>Chairman of the Software W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4200" spc="-1" strike="noStrike">
                <a:solidFill>
                  <a:srgbClr val="006633"/>
                </a:solidFill>
                <a:latin typeface="Garamond"/>
              </a:rPr>
              <a:t>Internet and local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All modules available at the intern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Competition modules also standalone Windows Cli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Data transfer to and from the CIVL datab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4200" spc="-1" strike="noStrike">
                <a:solidFill>
                  <a:srgbClr val="006633"/>
                </a:solidFill>
                <a:latin typeface="Garamond"/>
              </a:rPr>
              <a:t>Benefit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For CIVL faster and more accurate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Organizer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FREE competition software (all disciplin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Get data from CIVL databa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Easy delivery of resul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Pilo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Accurate personal data (like spelling of nam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Online registr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More information on results and WP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4200" spc="-1" strike="noStrike">
                <a:solidFill>
                  <a:srgbClr val="006633"/>
                </a:solidFill>
                <a:latin typeface="Garamond"/>
              </a:rPr>
              <a:t>Time and money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Timeframe (intention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Database ** Version 1.0 almost Ready N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200" spc="-1" strike="noStrike">
                <a:solidFill>
                  <a:srgbClr val="000000"/>
                </a:solidFill>
                <a:latin typeface="Arial"/>
              </a:rPr>
              <a:t>Competitions, pilots, WPRS, interfac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Scor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200" spc="-1" strike="noStrike">
                <a:solidFill>
                  <a:srgbClr val="000000"/>
                </a:solidFill>
                <a:latin typeface="Arial"/>
              </a:rPr>
              <a:t>Acro</a:t>
            </a:r>
            <a:r>
              <a:rPr b="0" lang="is-I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s-IS" sz="2200" spc="-1" strike="noStrike">
                <a:solidFill>
                  <a:srgbClr val="000000"/>
                </a:solidFill>
                <a:latin typeface="Arial"/>
              </a:rPr>
              <a:t>** The aim is for beginning of M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200" spc="-1" strike="noStrike">
                <a:solidFill>
                  <a:srgbClr val="000000"/>
                </a:solidFill>
                <a:latin typeface="Arial"/>
              </a:rPr>
              <a:t>Accuracy ** The aim is for beginning of M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200" spc="-1" strike="noStrike">
                <a:solidFill>
                  <a:srgbClr val="000000"/>
                </a:solidFill>
                <a:latin typeface="Arial"/>
              </a:rPr>
              <a:t>XC **Before year end (2006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Budget is to make sure the project will not stop because of money shortage.</a:t>
            </a:r>
            <a:br>
              <a:rPr sz="2600"/>
            </a:b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Hopefully it will not all be used. </a:t>
            </a:r>
            <a:br>
              <a:rPr sz="2600"/>
            </a:b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(One year worth of Sanction fe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4200" spc="-1" strike="noStrike">
                <a:solidFill>
                  <a:srgbClr val="006633"/>
                </a:solidFill>
                <a:latin typeface="Garamond"/>
              </a:rPr>
              <a:t>Current system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WPRS - pilot ranking  (on CIVL web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Competition calenda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Race 2003 – Scor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Many flight verification systems (gp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Check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CompeGp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Many other systems (some fre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Other systems (online registration...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4200" spc="-1" strike="noStrike">
                <a:solidFill>
                  <a:srgbClr val="006633"/>
                </a:solidFill>
                <a:latin typeface="Garamond"/>
              </a:rPr>
              <a:t>New software projec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Competition datab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Pilot datab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WPRS – pilot rank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Flight verific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Competition Scor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Scoring (all disciplin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200" spc="-1" strike="noStrike">
                <a:solidFill>
                  <a:srgbClr val="000000"/>
                </a:solidFill>
                <a:latin typeface="Arial"/>
              </a:rPr>
              <a:t>Web client if Internet connection is avail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200" spc="-1" strike="noStrike">
                <a:solidFill>
                  <a:srgbClr val="000000"/>
                </a:solidFill>
                <a:latin typeface="Arial"/>
              </a:rPr>
              <a:t>Windows client for standalone vers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</a:rPr>
              <a:t>Data is transferred from CIVL competition datab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</a:rPr>
              <a:t>Results returned to the CIVL datab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4200" spc="-1" strike="noStrike">
                <a:solidFill>
                  <a:srgbClr val="006633"/>
                </a:solidFill>
                <a:latin typeface="Garamond"/>
              </a:rPr>
              <a:t>For all CIVL disciplines</a:t>
            </a:r>
            <a:r>
              <a:rPr b="0" lang="is-IS" sz="4200" spc="-1" strike="noStrike">
                <a:solidFill>
                  <a:srgbClr val="006633"/>
                </a:solidFill>
                <a:latin typeface="Garamond"/>
              </a:rPr>
              <a:t>	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Hang gliding Class1 X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Hang gliding Class 2 X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Hang gliding Class 5 X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Hang gliding Aerobati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Paragliding X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Paragliding Accurac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Paragliding Aerobatic (solo and syncro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3000" spc="-1" strike="noStrike">
                <a:solidFill>
                  <a:srgbClr val="000000"/>
                </a:solidFill>
                <a:latin typeface="Arial"/>
              </a:rPr>
              <a:t>Different needs for tasks/scoring/WP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4200" spc="-1" strike="noStrike">
                <a:solidFill>
                  <a:srgbClr val="006633"/>
                </a:solidFill>
                <a:latin typeface="Garamond"/>
              </a:rPr>
              <a:t>CIVL Databas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Pilot databa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Competition database (register event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Pay sanction fe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Automatic Competition calend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Results databa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200" spc="-1" strike="noStrike">
                <a:solidFill>
                  <a:srgbClr val="000000"/>
                </a:solidFill>
                <a:latin typeface="Arial"/>
              </a:rPr>
              <a:t>All task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200" spc="-1" strike="noStrike">
                <a:solidFill>
                  <a:srgbClr val="000000"/>
                </a:solidFill>
                <a:latin typeface="Arial"/>
              </a:rPr>
              <a:t>Scores of every tas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200" spc="-1" strike="noStrike">
                <a:solidFill>
                  <a:srgbClr val="000000"/>
                </a:solidFill>
                <a:latin typeface="Arial"/>
              </a:rPr>
              <a:t>All tracklog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200" spc="-1" strike="noStrike">
                <a:solidFill>
                  <a:srgbClr val="000000"/>
                </a:solidFill>
                <a:latin typeface="Arial"/>
              </a:rPr>
              <a:t>Total sco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List of competition of every count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List of competition of every plilo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4200" spc="-1" strike="noStrike">
                <a:solidFill>
                  <a:srgbClr val="006633"/>
                </a:solidFill>
                <a:latin typeface="Garamond"/>
              </a:rPr>
              <a:t>Pilots databas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Pilots have unique I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All pilots 2001-2005 already register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Pilots can register and update own personal inform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Pilots can register for competi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4200" spc="-1" strike="noStrike">
                <a:solidFill>
                  <a:srgbClr val="006633"/>
                </a:solidFill>
                <a:latin typeface="Garamond"/>
              </a:rPr>
              <a:t>Competitio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Register a competition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Automatic Competition Calenda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Add participants (already in the database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Create tas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Do scor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Display task resul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Display competition Resul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Add competition to WPRS </a:t>
            </a: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(and CIVL databas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4200" spc="-1" strike="noStrike">
                <a:solidFill>
                  <a:srgbClr val="006633"/>
                </a:solidFill>
                <a:latin typeface="Garamond"/>
              </a:rPr>
              <a:t>Ranking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All disciplines (and female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Different WPRS formulas for each discipli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Ranking updated regularl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More information availab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Competi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Pilo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Tasks and resul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WPRS (with backward history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4200" spc="-1" strike="noStrike">
                <a:solidFill>
                  <a:srgbClr val="006633"/>
                </a:solidFill>
                <a:latin typeface="Garamond"/>
              </a:rPr>
              <a:t>Scoring for all disciplin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Accuracy scor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Acrobatic scor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XC scor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Flight verific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Different scoring formul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20:30:12Z</dcterms:created>
  <dc:creator>ag</dc:creator>
  <dc:description/>
  <dc:language>en-US</dc:language>
  <cp:lastModifiedBy>ag</cp:lastModifiedBy>
  <dcterms:modified xsi:type="dcterms:W3CDTF">2006-02-11T10:45:48Z</dcterms:modified>
  <cp:revision>15</cp:revision>
  <dc:subject/>
  <dc:title>CIVL Competition Software </dc:title>
</cp:coreProperties>
</file>