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8897-DF6B-42EE-9FE1-384963A1B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5EF6-0C48-4426-A7FA-5103929C1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8230-2F06-4B2D-A659-814890058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89DA-7EF3-4221-A13F-70DC80CE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7817-6360-4E25-B87A-C41624AD8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FEE6-DA50-4028-A377-487BA59C1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9EB4-1776-42F6-A5C4-6E93222C6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052E-D253-4F7D-913F-2B9B6801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A518-CF3A-4BA2-8673-58DDAE42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C12B-C99E-49DB-AA2B-A08665B4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E437-BD31-4326-8160-B11A6AFD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153D-9555-46E2-972B-29CF4314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573B-0377-4D81-B0E7-6E23D6EC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7E3C-3C25-478B-93F2-6AED8DBB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8D84-0A9F-46ED-9127-ED329DE1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0A2C-2F4C-418D-BD9E-3829BA7C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8A45-4B56-428E-94D6-CCD7CCDA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8CEE-9541-4DB9-992E-38CA28B21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816DC-1F58-4EEC-B795-9B8DBC418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07BBD-4F89-451C-807F-FF8C3FB7B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4553A-CF0A-4102-9078-F2675717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4A89C-19B1-4534-8EC1-4DD6928C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FB3E5-4D10-44A0-8FC1-FBB45073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5C153-9FD6-4AE2-9B69-B1880BD3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24B5-4636-456B-8C81-4C94914A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04A11-4232-45B7-91A9-FDE91599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BB398-A19A-49D0-BB15-38D01705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9C0E4-1F1F-4A56-8AE6-B993F430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BCB4D-55FD-4E3A-8B20-44561436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0922D-E540-4CF2-9D74-749D833A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F66DB-3599-4AFF-B4E4-EF15B65D8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384C2-9917-4051-8D18-ADB11E7A2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E9C54-3C6A-4838-8E5C-432385463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9E757-B167-4B9E-8F6C-24EF2413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61A43-4512-4633-820E-5448681C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2055-EDE4-4555-86A4-EE997A08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05443-C91F-4DED-AF35-2BCDD0B1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32A3D-7F98-48B7-B0C7-1DE44267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601ED-C9F7-4982-AEEC-C05F3586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9F680-3C42-4BAC-B50D-F3231236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3337D-DC65-4213-9F74-0E1000F6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B9DCC-D396-4D6F-BC39-F79C9577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E20C2-06E4-4351-BAFA-C010DEF9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9EE1D-A780-45FB-8B79-D21DB3592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B9A6B-C530-4009-A267-5A59911D9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5A71-1D5D-4591-8261-564A6EE6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0BCA-524F-4218-B12E-F2C2F7F3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C965-7C0A-4F72-9301-1E3AB1F6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8D3D-7029-4D14-8564-954A960D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46BB-55D5-4466-ACBB-0564FC0F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48AD-3251-4FD8-A664-C80545038C7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EE74-93C3-4243-9913-20ACBBF6504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5F80-CC5C-4F55-B4AD-033D26B3107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CFE5-3CC2-4356-ADD7-3915302D872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Form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Notes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3) issued in 2015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4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5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7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4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237,725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14,867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hree Tandem fatalities in 2014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01,20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42,415 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(1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2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1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2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25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6983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 bridle entanglement with camer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lmet after unstable reserve activat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ow radical turn, high impact with water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using lung damage and death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stability, no Main deployment, AAD activate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, freebag caught on jumper, insuffici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ight for reserve deployment, reserve line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rapped under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jumper’s arm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1      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25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6 - 19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s iss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nd Canopy Collision – each a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4 – 13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3 – 10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39% of total fatalities, 3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0 (65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1 (35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6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3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4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39% of 3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640"/>
            <a:ext cx="8229600" cy="33415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75,020 Solo jumps – 1,162,7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3 ; Solo Fatalities 28 (3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6-01-14T20:42:49Z</dcterms:modified>
  <cp:revision>105</cp:revision>
  <dc:subject/>
  <dc:title>SAFETY &amp; TRAINING FORUM 25 January 2003</dc:title>
</cp:coreProperties>
</file>