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C08B-BD62-440A-8795-F91CC1EDC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6487-6EED-4324-BC08-E27609591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984F-9200-407D-83EB-484F9D58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9BD8-0003-4365-BFD1-5F1FB869C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DD16-06BA-4623-A007-A106C1C8D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F1BF-2EB3-44DC-90C6-56A9FA44C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4F51-C382-4052-9964-E57D2A93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E324-E45E-419E-9BDC-0BA8FF13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AC309-A243-493E-83C6-72436D48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5149-3C34-41A5-8E39-67B361F5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090F-C0A5-428C-89D7-92AF9EB7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799B-2029-431D-9803-A1EEE40D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4DE3-6102-4F5E-8174-9CD3B183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41C7-1D41-416A-9CDF-8C21D0C5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F5B6-A889-49D3-B8A0-B21AF1D8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F45A-E7E1-4602-A647-EE7417D1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A6E0-E415-4F2E-AEE0-C81150686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BC97-95CD-4F87-A15F-9A03DEC31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F066-AFE4-4F5C-AC3D-233F3FC7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0BDB-F2C7-4FBF-B46D-FEC36104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09E9-7384-435A-8055-BE02B7FA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0E1C-BBA4-45D2-AC57-1311DD06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A8C2-B6B7-4A30-A24E-6451A462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9980-E5DA-4458-A0FC-4EF2F3E2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F91B-B98B-44E0-AA76-4CD6730B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E465-DC61-49C3-987B-316DD080414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3C89-2C4F-4CC4-9874-8FF0FD40DBA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560" y="234936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16000" y="4292280"/>
            <a:ext cx="78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5905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2005 Safety Report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4760" y="1916280"/>
            <a:ext cx="69292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6 countries supplied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147,351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06,51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4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96,052 jumps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12,6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64 Fatalities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3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0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47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160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Other’ Fatalities (44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423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with aircraf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from canopy 30m. over water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ment with Skyboar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AAD fire after fast, low turns.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4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8816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Fatalities – </a:t>
            </a:r>
            <a:br>
              <a:rPr sz="3600"/>
            </a:b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Largest Group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8560" y="2133720"/>
            <a:ext cx="707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0% (13)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11)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 (10) Low cutaway of 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m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Significant Figur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060280"/>
            <a:ext cx="7336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4 of the 64 fatalities (53%) (30 fatalities were exclud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% - 26 of 64 fatalities,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6% - 10 of the 64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84% - 54 of the 64 fatalities,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64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592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Trends &amp; Issu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741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almost one-third of fatalities in 2005 – AAD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aeaea"/>
                </a:solidFill>
                <a:latin typeface="Tahoma"/>
              </a:rPr>
              <a:t>Tandem - Sol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10.4% against all Solo jumps  in 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,565,870 Solo jumps – 581,000 Tand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1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 2 (3%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olo Fatalities 62 (97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066320" y="1915920"/>
            <a:ext cx="7543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5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contents –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6 For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ose countries who did not report for 2005 are earnestly requested to make a special effort to do so for 2006.  The compilation of data is to the benefit of the country gathering same, not just to IP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258920" y="62064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 and Appe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07-01-12T16:53:10Z</dcterms:modified>
  <cp:revision>40</cp:revision>
  <dc:subject/>
  <dc:title>SAFETY &amp; TRAINING FORUM 25 January 2003</dc:title>
</cp:coreProperties>
</file>