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3488-342D-4C12-828C-EBF2CA42B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0815B-AA07-4961-9E67-9EE85A636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36CC8-0D7B-45E5-9A76-54E5FE7C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1F76F-2B1E-4DE6-BA96-34ABB7514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578D4-69CD-4486-ABC0-79BB8A422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D753-88FC-4E1F-B763-E2C1834FE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2474-737E-4B4B-B93B-5689FEA0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06AD-03DE-4CFC-ACD7-EA6AA677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A9B9-F8BD-48BB-916A-582B0DD9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4EBE-C2BD-408A-8F99-03DDA4C4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6C10-A86C-4CEA-BAC8-39BDF87A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B51C-6842-4EFD-84C6-A9941E7B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9CAE7-3436-4B24-BBE0-0C684A08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93BD-B747-4BCA-97E4-6E28878A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5E9B-A8E9-4DB5-AE62-0F6D4B9D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B36B-F6CE-4DA3-B3ED-05F8844C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463C-8C98-4694-B501-37A1E69A1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524C-D238-4FC6-8E2A-521F7529D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407EE-A346-45A6-94C9-6201F7AD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ADA10-7CCC-4439-90D1-831DBEFE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04D74-28DC-407F-95F7-B54E49D1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14CEF-7F15-41D4-8870-ED889654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25B57-63DF-4523-BB8E-AC7205FB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AE9F9-D172-4F80-A1C6-1C8BFE54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F9D0E-99FC-4255-8208-E32CB999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6755-4C3A-405A-8814-F26D4A7CF6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15C0-F94B-4637-BA2F-64F1F51010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TECHNICAL &amp; SAFETY COMMITTEE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353880"/>
            <a:ext cx="590544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2007 Safety Repor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41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222,629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837,831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8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1,509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,321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68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‘</a:t>
            </a: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Other’ Fatalities (5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Main Activation, too low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agged on Land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Hard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Reserve opened at Aircraft Door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040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2% (15 of 68) Other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% (7) Cutaway and no Reserve Deploy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98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917720"/>
            <a:ext cx="80024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2 of the 68 fatalities (47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4 of the 68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6 of the 68 fatalities (24%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5 of the 68 fatalities (81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5 of the 68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2 of the 68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Some Trends &amp; Issu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6 – 12%, appears to be a more apparent factor in recent years.  This may point to an ageing skydiving population or other factors may be involv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- 24% of fatalities in 2007 may have been avoided by the use of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Tandem - Sol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9.6% of all jumps, Tandem &amp; Solo jumps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2.2% in 2006; 10.4% in 200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624,395 Solo jumps – 598,234 Tand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5.5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2 (3%)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Solo Fatalities 66 (97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This report, along with 2007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Garamond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Information Notices (8) issued in 2008 by T &amp; S Committe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Form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Notes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AAD Survey 2008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Those countries who did not report for 2007 are earnestly requested to make a special effort to do so for 2008.  The compilation of data is to the benefit of the country gathering same, not only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59600" y="388800"/>
            <a:ext cx="1601640" cy="930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9-01-22T12:15:24Z</dcterms:modified>
  <cp:revision>56</cp:revision>
  <dc:subject/>
  <dc:title>SAFETY &amp; TRAINING FORUM 25 January 2003</dc:title>
</cp:coreProperties>
</file>