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E22D-28F3-4779-90E8-6B1C36A99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5DB1-2F32-40C8-BBE2-A251BEAC9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3F9D-C4E6-4686-B4DB-4DD9B1A9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D58F-757B-4052-AB01-55188F9B2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5F3F-2899-47A4-B2C7-48A64631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7616A-D9CA-409A-8CBB-34A6DB175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2B2A5-FD20-47FB-B67A-D6603836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C7A1E-1321-4B5C-B90D-C3BC9E61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C03FC-0EB7-4B64-987F-A89EA731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2CFDB-F9C7-467A-BB7C-28BD570F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81BF1-E3C9-4784-A79E-95D3BF8C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7BA1D-4ABA-49DB-A8B7-17AE4448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EF98-7033-4439-BDAC-0748F8CC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8AAA1-CC24-4765-901F-2527F658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3B3AD-F155-40E2-9298-EE9FEE1D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251E5-D2E6-4729-BC20-DEA78986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D02AF-5BAC-4534-A963-ED2832D76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73264-9BE8-4190-B39B-D3FD56316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127B-8B14-4466-A24D-2D2E0D0A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70DB-B9D2-4AA7-B08E-50B781BE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9135-FA6F-4891-95E9-D166A8DD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E736-DC4C-4D88-A978-CFCABC0A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306C-BC84-4F50-AA75-3793B6A7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7D23-8954-4024-88E2-0408D108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BF25-0DFD-4313-AE8E-D690AC82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1A51-BBDB-4252-A770-5ABDAE807C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F2CD-821F-4DB5-8FC0-8DFA353A67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2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3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3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5,769,010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357,15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9,028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893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400" spc="-1" strike="noStrike">
                <a:solidFill>
                  <a:srgbClr val="ffffff"/>
                </a:solidFill>
                <a:latin typeface="Arial"/>
              </a:rPr>
              <a:t>73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Interm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5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4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6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Other ‘ Fatalities (55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8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Other 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 walking into Propello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Aircraft crash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nknow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3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9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No or Low Activation of Main 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4% of 65 fatalities (8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60% of 65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3% of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0% of fatalities would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8 of the 73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eport, along with 2002 AAD Report, has been sent by e-mail to all respondents and to all other countries for which we have e-mail addresses.  Hard copies and CD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Som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4-12-21T22:32:57Z</dcterms:modified>
  <cp:revision>14</cp:revision>
  <dc:subject/>
  <dc:title>SAFETY &amp; TRAINING FORUM 25 January 2003</dc:title>
</cp:coreProperties>
</file>