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3857-27DD-4B05-8B14-DBAB9424B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1D74-2199-4AE6-9256-203AFD1F5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EF62-5DAA-41F0-B5D0-EE0A3164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B533-9D04-4331-96B7-BDDB42AC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44CF-365D-4EEC-891B-3B36285A4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D210-40F0-45AA-B3C0-C74B641F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2D31-5867-495F-834C-33730A4D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16B2-114F-4DE8-88CE-2361B63E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E712-D4DB-4F50-B3D5-DC4E77F8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44BC-25B0-462B-B277-4F44988F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09B0-0E9A-4988-9F1A-5B58D000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EC12-441A-43CD-8832-0FD03A98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891C-3FF1-4D23-990D-964803BC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3922-034C-4ACC-B260-4CA11ACA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E4FE-DB68-4D2C-ADC3-6F9F2E61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BC6F-2DC0-4C23-B5D0-F3BAAA08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3D40-7314-46BE-B8C0-A1B7390A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2901-B213-4775-AD35-BFA1A317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4DAC-E583-4065-AEEF-2F23C325E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82B17-9B2E-49EA-BE5C-736973E7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1145D-6501-4400-97F8-E522BAB9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6E28F-44BB-4929-98B7-2B98B954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82891-A1DC-4BFE-83DE-FD635ABA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DF6A0-48D6-435A-831E-715A630D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1BCD-4476-40FF-9E57-42AA4D88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B9E78-56D2-49E0-9492-29AE18F3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73435-4E46-4729-8515-7EC826D8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1CAC8-2664-4EFD-81AF-10475E17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F5BD0-74F6-489F-A9FD-DA043FA7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6781E-D53B-4E8F-A2AB-3AA8637D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32423-DE70-4F0F-A7E4-C97DCBB52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C54D5-879B-4A95-854A-BD9066051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A76D1-C937-40A2-9F79-96F1763D7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617B7-FFF7-4D14-A9B7-3449FCE1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49BF4-09FC-496C-A2FE-DA1E3308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5B1E-5B02-4F6A-B86D-466D809C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9BEEF-E261-4C55-961B-44F2D17A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97476-1463-4AF1-94DD-A1439BED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FD2CE-8BEE-48E3-9B41-EC8321C6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72C0F-E50C-49E7-8472-C04276E7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B931D-D542-46EC-AAE0-F3F78FE4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ED0E4-7B7C-4564-BADB-2158B840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F424A-FF51-4F6B-8381-520CBC13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556F1-38A1-4747-AABE-C79EB675C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288CF-46E1-4A3B-83C6-9A9368581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BE94-E243-45B7-98BA-1EA06E19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F8C8-C990-4DEC-9876-5173287D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5461-9A86-429A-8760-9255E1F1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74A6-D7B8-420B-A922-384DBF0F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700B-CC42-4C5E-81F7-32BC485D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05D3-656A-463F-B3D2-6F361E22F06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AFAD-88DC-42F4-8057-A1597670917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3EF1-4DDC-40CF-B026-EA1840D3929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87E9-3CAB-4BB4-A24E-072B150F1F4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2) issued in 2016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5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6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8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5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27,02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25,8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0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10,450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2,097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60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5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50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7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 pull, AAD fired and cut loop but  no reserve deployment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oot caught on line, cut away, reserve partly open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Spinning main, reserve deployed 800 ft., no cuta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Apparent incapacita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deflated at low altitude, structural failur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 – jumper over run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urbulence at low altitud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Wingsuit -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one wing not closed, vertical descent rate too low       1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to fire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50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12 - 2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7 – 12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d issu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6 – 1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9 (32% of total fatalities, 6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60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1 (68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48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6 (10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2 (70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Five of the 2015 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9 (32% of 60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7.6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55,873 Solo jumps – 1,171, 150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59 (60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7-01-17T21:11:37Z</dcterms:modified>
  <cp:revision>112</cp:revision>
  <dc:subject/>
  <dc:title>SAFETY &amp; TRAINING FORUM 25 January 2003</dc:title>
</cp:coreProperties>
</file>