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68A33-8C7F-440A-BFCA-41F99102D5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1B048-07F3-408B-ABF1-6E6F50F021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A768-9E45-4F98-B320-6BA168299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4111-FEB1-4D7D-A48D-940A75C8D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143C-4D92-4596-A902-4D3C3A55A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89B2-D35D-4968-89C0-E543AAE18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77585-CF4B-4B0C-81CD-B6DB33886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F2C56-6ED7-47A7-982D-2F59C9B88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4975D-C483-47BF-9FDC-D6DE68FD7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40FBE-51D6-4683-9BB0-85670674D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1F39A-88DD-4C92-9DDF-638ABF338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A8F9E-5B1D-480B-A53A-9DDFCFDBD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AEC9D-168B-429C-AEDF-D30F1AAD4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0316-F4DC-48B3-B5F8-EC441EC6B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F8F01-68DE-402F-AAC2-CE21CE705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C93D3-F196-4515-99D4-76AC2CEF2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AFA1C-8CF2-4BE7-BFEE-B08BE744F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C2EE7-16AB-4B19-B91A-FEC0721EA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B0B2A-B3B3-4E45-BCD6-86A7D1AF3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E94E0E-7652-4BF1-BFF8-EC68DFDE4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5499DB-51D2-4908-BAC5-8B8B57FE1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51AD00-5025-4C57-8F84-1C16D28A6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6C2EB2-7555-4A15-8C9E-8402BB9FA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20AA7C-FB15-4C46-8820-0BD5A8BD1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BACE-5084-4C88-A572-74F5C8700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3150E1-D456-4EC5-9FEA-5A80FC46B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5FCC45-EFF3-41D4-88B8-FDAF44A73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9F082F-BCED-44E2-A0B5-63212AB26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774B6C-C1FC-4839-A1A2-F64F35209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88447E-9388-4D23-B7CC-5091D428A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A74A46-41EC-4B90-A2A5-B0265F0FA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931407-A6DA-4E22-8B16-A664CFD51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D0EBB9-5B6C-4FEA-8DF4-7FDA9FB72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D5222A-8CA3-4601-AFE7-1362D0628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059FD7-84BB-424A-BF36-C52E112DC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B23E-9742-4F5A-917A-4E7FA0453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549357-51D2-4F57-9E4F-837BAACCA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FF4D95-2906-47A8-9DAF-3E2D00283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40377B-29ED-4B8F-BAF8-6A65F595B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BDA0A2-858A-4EFB-A09A-9CF499C6E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8DB320-A4C2-4B37-8D67-3AD4CB309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473F6E-0E0D-4205-9B48-80BD78481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4013C4-9DE1-4023-AE74-45158D6B3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F99339-836E-4A52-9585-B10106D53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BB5A77-2CD6-4E75-9367-00FB87961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0FD3-725E-47C1-BD74-5D5BBD8C5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B589-D6B5-4E53-B28A-98FE040BD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FD88-9873-4ABF-B3B3-6ED189A6B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D7C1-F771-4345-B6A9-AD1E2717B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A252-D4AD-4BB2-B4AB-B5C091E29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26E1E-93E2-4DFB-988C-CB13E208C632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EB51F-2A61-44FE-AE28-6B5860B1CE69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0AFE4-E2A3-4C1C-8916-7E706B1306B9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E0FDD-7FC1-4152-8C0A-A898A42EE3BA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ctangle 2" descr=""/>
          <p:cNvPicPr/>
          <p:nvPr/>
        </p:nvPicPr>
        <p:blipFill>
          <a:blip r:embed="rId1"/>
          <a:stretch/>
        </p:blipFill>
        <p:spPr>
          <a:xfrm>
            <a:off x="822240" y="1841400"/>
            <a:ext cx="8407440" cy="19558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2484000" y="3499920"/>
            <a:ext cx="6480360" cy="1584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logo_ipc_01_trait copie"/>
          <p:cNvPicPr/>
          <p:nvPr/>
        </p:nvPicPr>
        <p:blipFill>
          <a:blip r:embed="rId2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8" descr="logo_ipc_01_trait copie"/>
          <p:cNvPicPr/>
          <p:nvPr/>
        </p:nvPicPr>
        <p:blipFill>
          <a:blip r:embed="rId1"/>
          <a:stretch/>
        </p:blipFill>
        <p:spPr>
          <a:xfrm>
            <a:off x="7451640" y="549360"/>
            <a:ext cx="1230480" cy="86364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899640" y="1557360"/>
            <a:ext cx="7543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is report, along with this and Power Point presentation, has been sent by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e-mail to all respondents and to all other countries for which the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&amp;S Committee has e-mail addresses.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CDs are available to IPC Delegates and to Technical and Safety Officers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who request copies.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Tahoma"/>
              </a:rPr>
              <a:t>Distribution of Report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he CD has the following material -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4 Safety Survey Report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4 Safety Survey Report Power Point Presentation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5 Form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5 Notes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Information Notices (3) issued in 2015 by the IPC’s Technical &amp; Safety Committee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PPEAL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ose countries who did not report for 2014 are requested to make a special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effort to do so for 2015.  The compilation of data is to the benefit of the country gathering same,  and to the worldwide skydiving community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Text Box 10"/>
          <p:cNvSpPr/>
          <p:nvPr/>
        </p:nvSpPr>
        <p:spPr>
          <a:xfrm>
            <a:off x="147636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Title 1" descr=""/>
          <p:cNvPicPr/>
          <p:nvPr/>
        </p:nvPicPr>
        <p:blipFill>
          <a:blip r:embed="rId1"/>
          <a:stretch/>
        </p:blipFill>
        <p:spPr>
          <a:xfrm>
            <a:off x="450720" y="463680"/>
            <a:ext cx="8686800" cy="115704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68000" y="2133720"/>
            <a:ext cx="8280360" cy="3456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37 countries responded, from a possible approximately 85, a response rate of 44%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The response rate was similar to previous years and has been about this rate for the 27 years of the Safety Survey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Once again countries are encouraged to put in place systems for the collection of the type of data in this report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Such data is invaluable  - for use by parachuting organisations, dropzones, those involved in the areas of technical and safety matters, and when dealing with authorities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300" spc="-1" strike="noStrike">
                <a:solidFill>
                  <a:srgbClr val="04617b"/>
                </a:solidFill>
                <a:latin typeface="Arial Unicode MS"/>
              </a:rPr>
              <a:t>2014 Safety Report</a:t>
            </a:r>
            <a:endParaRPr b="0" lang="en-US" sz="43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69296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37 countries supplied dat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6,237,725 skydives were made b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1,314,867 jumpe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31 people were killed skydiv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these figures include Tandems; there were three Tandem fatalities in 2014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 Fatality per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201,207 Jumps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42,415  Jump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Picture 4" descr="logo_ipc_01_trait copie"/>
          <p:cNvPicPr/>
          <p:nvPr/>
        </p:nvPicPr>
        <p:blipFill>
          <a:blip r:embed="rId1"/>
          <a:stretch/>
        </p:blipFill>
        <p:spPr>
          <a:xfrm>
            <a:off x="7164360" y="404640"/>
            <a:ext cx="1513080" cy="114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04617b"/>
                </a:solidFill>
                <a:latin typeface="Arial Unicode MS"/>
              </a:rPr>
              <a:t>31 Fatalities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9912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3 Studen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(10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7 Intermediate   (23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1 Exper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(68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3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4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2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25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3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3" name="Picture 7" descr="logo_ipc_01_trait copie"/>
          <p:cNvPicPr/>
          <p:nvPr/>
        </p:nvPicPr>
        <p:blipFill>
          <a:blip r:embed="rId1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Other’ Fatalities (25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99640" y="1628640"/>
            <a:ext cx="69836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Fast Canopies - Intentional Fast Landing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6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Equipment Related Issu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Canopy Collision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Tandem Fataliti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3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Freefall Collision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2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Incorrect Emergency procedur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Reserve bridle entanglement with camera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helmet after unstable reserve activation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Medical Issue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Main malfunction, no action  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Low radical turn, high impact with water,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causing lung damage and death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 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Instability, no Main deployment, AAD activated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reserve, freebag caught on jumper, insufficient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height for reserve deployment, reserve lines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trapped under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jumper’s arm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 Unicode MS"/>
              </a:rPr>
              <a:t>  1           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700" spc="-1" strike="noStrike" u="sng">
                <a:solidFill>
                  <a:srgbClr val="000000"/>
                </a:solidFill>
                <a:uFillTx/>
                <a:latin typeface="Arial Unicode MS"/>
              </a:rPr>
              <a:t>Total  25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7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92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700" spc="-1" strike="noStrike">
                <a:solidFill>
                  <a:srgbClr val="04617b"/>
                </a:solidFill>
                <a:latin typeface="Arial Unicode MS"/>
              </a:rPr>
              <a:t>Fatalities – Largest Groups</a:t>
            </a:r>
            <a:endParaRPr b="0" lang="en-US" sz="37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991280" cy="38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Fast Canopies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6 - 19% of 3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Equipment relates issu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and Canopy Collision – each at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4 – 13% of 3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3 – 10% of 3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anopy handling issues, combined –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2 (39% of total fatalities, 31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0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10920" y="417600"/>
            <a:ext cx="618156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5000" spc="-1" strike="noStrike">
                <a:solidFill>
                  <a:srgbClr val="04617b"/>
                </a:solidFill>
                <a:latin typeface="Arial Unicode MS"/>
              </a:rPr>
              <a:t>Significant Figur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800244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43080" algn="ctr">
              <a:lnSpc>
                <a:spcPct val="80000"/>
              </a:lnSpc>
              <a:spcBef>
                <a:spcPts val="601"/>
              </a:spcBef>
              <a:buClr>
                <a:srgbClr val="e2d700"/>
              </a:buClr>
              <a:buSzPct val="8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F THE 31 FATALITI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20 (65%) appear to have occurred with the parachutist having at least one good parachute on his/her back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11 (35%) occurred after the successful deployment of the main parachute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5 (16%) might have been avoided by AAD use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23 (74%) appear to have been caused by human error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                </a:t>
            </a:r>
            <a:r>
              <a:rPr b="1" i="1" lang="en-IE" sz="1900" spc="-1" strike="noStrike" u="sng">
                <a:solidFill>
                  <a:srgbClr val="000000"/>
                </a:solidFill>
                <a:uFillTx/>
                <a:latin typeface="Arial Unicode MS"/>
              </a:rPr>
              <a:t>None of the 2014 Fatalities were First Jump Students</a:t>
            </a: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3" name="Picture 4" descr="logo_ipc_01_trait copie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10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4617b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71640" y="1990800"/>
            <a:ext cx="7416720" cy="37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ontinuing high percentage of fatalities, 12 (39% of 31) resulting from canopy handling, canopy control, and landing issu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Roughly similar percentage distribution of fatalities between Student/Intermediate/Expert as in previous years .  The category ‘Expert Skydiver’ continues to have the most fatalities, but it has the biggest numbers of jump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AAD and RSL  are both now widely use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6" name="Picture 5" descr="logo_ipc_01_trait copie"/>
          <p:cNvPicPr/>
          <p:nvPr/>
        </p:nvPicPr>
        <p:blipFill>
          <a:blip r:embed="rId1"/>
          <a:stretch/>
        </p:blipFill>
        <p:spPr>
          <a:xfrm>
            <a:off x="6877080" y="620640"/>
            <a:ext cx="1440000" cy="10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4617b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539640" y="2276640"/>
            <a:ext cx="8229600" cy="334152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s 19% of </a:t>
            </a:r>
            <a:r>
              <a:rPr b="1" lang="en-IE" sz="2400" spc="-1" strike="noStrike" u="sng">
                <a:solidFill>
                  <a:srgbClr val="000000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jumps, Tandem + Sol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,075,020 Solo jumps – 1,162,705 Tande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 3 ; Solo Fatalities 28 (31 total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9" name="Picture 4" descr="logo_ipc_01_trait copie"/>
          <p:cNvPicPr/>
          <p:nvPr/>
        </p:nvPicPr>
        <p:blipFill>
          <a:blip r:embed="rId1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16-01-14T20:42:49Z</dcterms:modified>
  <cp:revision>105</cp:revision>
  <dc:subject/>
  <dc:title>SAFETY &amp; TRAINING FORUM 25 January 2003</dc:title>
</cp:coreProperties>
</file>