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8.png" ContentType="image/png"/>
  <Override PartName="/ppt/media/image12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3.wmf" ContentType="image/x-wmf"/>
  <Override PartName="/ppt/media/image2.png" ContentType="image/png"/>
  <Override PartName="/ppt/media/image4.jpeg" ContentType="image/jpe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1C84-8365-413F-A916-3BA460958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7532-201C-467B-9C59-78DD28BD2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B8E2-23B7-411F-906E-DDF9855C0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90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77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90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77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B273-1B7D-40E7-8DEF-9E4E56C77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C506-984C-4D49-B589-77D8DB09B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20FC-D3D3-4835-81FD-993DA5559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D85C-3B99-4E63-9795-FF263493F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1E18-85F8-47F8-B58C-451168880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AA19-0B19-4E36-8DDA-5BE41BDF0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785E-94B5-4B21-8AB1-53F6F2E4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EC14-BBB0-4536-875B-64D2837E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0065-6DB4-492E-8EED-DB699960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FCCDB-EE30-4940-8CF2-79C603737E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UX2000" descr=""/>
          <p:cNvPicPr/>
          <p:nvPr/>
        </p:nvPicPr>
        <p:blipFill>
          <a:blip r:embed="rId2"/>
          <a:stretch/>
        </p:blipFill>
        <p:spPr>
          <a:xfrm>
            <a:off x="7391520" y="152280"/>
            <a:ext cx="1295280" cy="12621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62120" y="1600200"/>
            <a:ext cx="784836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849240"/>
            <a:ext cx="685800" cy="324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LUX2000" descr=""/>
          <p:cNvPicPr/>
          <p:nvPr/>
        </p:nvPicPr>
        <p:blipFill>
          <a:blip r:embed="rId1"/>
          <a:stretch/>
        </p:blipFill>
        <p:spPr>
          <a:xfrm>
            <a:off x="2666880" y="2133720"/>
            <a:ext cx="3810240" cy="3711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6858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August 3rd - August 13th, 200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estimated result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Balloon European Championship, 19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40.000 vis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Airship World Championship, 19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50.000 visit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7 TV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Balloon World Championship, 199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00.000 - 250.000 vis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26 medi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16 journ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Balloon European Championship,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00.000 vis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00 journ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18728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3333cc"/>
                </a:solidFill>
                <a:latin typeface="Arial"/>
              </a:rPr>
              <a:t>based on previous experi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Fiesta flying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Entry fee: 500 Eur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cludes all propane from August 4th to August 13th, 2000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2 x1:50.000 m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4 tickets for attending the Welcome Reception so as the Awards Lun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Special conditions for Special sha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re-registration: Please send the attached pre-registration document 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Commune Aérostatique du Grand-Duché de Lux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BP 2, L-6101 Junglin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number of Fiesta balloons is limited to 4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As soon as your pre-registration is accepted, we will send you the final registration for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Welcome to the</a:t>
            </a:r>
            <a:br>
              <a:rPr sz="3200"/>
            </a:b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Luxembourg Balloon Jambore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981080" y="1670040"/>
            <a:ext cx="5562720" cy="48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Pre-registr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OFFICIAL PILOT ENTRY 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PILOT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Family nam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First Nam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Nationality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ddress for correspondenc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el/Fax numbers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Email Address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Hours Pilot in Charge, Hot Air Balloons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ype of Pilots Licenc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ilots Licence Number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Validity: 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Issued by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Pre-registr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BALLOON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Registration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Make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ype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Size:  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Year of Manufacture: _______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Hours flown: 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ertificate of Registration number: 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ertificate of Airworthiness number: 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Valid to: 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Insurance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ompany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hird party limit: 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Valid to: 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Brief description (advertising, colours, etc): 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PILOT CV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Brief description of experience and achievements in ballooning (Please add a colour pi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of yourself and your ballo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organizer’s reference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82, Hot Air Balloon European Championship in Ettelbru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88, Hot Air Airship World Championship in Walferdange, Mers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91, Hot Air Airship European Championship in Mondo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93, Hot Air Balloon World Championship in Meys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Organizer: Commune Aérostatique du Grand-Duché de Luxembourg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O Box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L-6101 Junglin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Grand-Duchy of Lux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hone: (+352) 78 90 75-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Fax: (+352) 78 90 75-46 and 78 99 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Email: contact@balloon.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ternet: www.balloon.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event in the year 2000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5791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August 3rd - August 13th,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 Meysembourg, Larochette / Mersch, Lux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more than 120 ballo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81 of the best european pilots compe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special shapes an a Fiesta progra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wo flights per day, mornings and even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sight-seeing programm for pilots and cre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wo weekends of total entertain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flights and night g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arachutists, deltaplanes, kites etc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entertai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349"/>
              </a:spcBef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bars, restaura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the balloon vill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concerts, fireworks, sh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the balloon pa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BALLON5" descr=""/>
          <p:cNvPicPr/>
          <p:nvPr/>
        </p:nvPicPr>
        <p:blipFill>
          <a:blip r:embed="rId1"/>
          <a:stretch/>
        </p:blipFill>
        <p:spPr>
          <a:xfrm>
            <a:off x="6248520" y="2438280"/>
            <a:ext cx="2361960" cy="3600720"/>
          </a:xfrm>
          <a:prstGeom prst="rect">
            <a:avLst/>
          </a:prstGeom>
          <a:ln w="0">
            <a:noFill/>
          </a:ln>
          <a:effectLst>
            <a:outerShdw dist="28496" dir="9225519" blurRad="0" rotWithShape="0">
              <a:srgbClr val="00cc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Meysembourg villag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686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sit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5" name="Site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8680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communic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partner RTL Radio and T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Local Newspaper and Magazine partner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Luxemburger Wort, Telecran and Rev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international TV coverage by Euro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FAI TV distribution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200 international journ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partner binsfeld-communicatio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communication consul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partner Exceed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ternet Presence Provi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BALLON3" descr=""/>
          <p:cNvPicPr/>
          <p:nvPr/>
        </p:nvPicPr>
        <p:blipFill>
          <a:blip r:embed="rId1"/>
          <a:stretch/>
        </p:blipFill>
        <p:spPr>
          <a:xfrm>
            <a:off x="4952880" y="3733920"/>
            <a:ext cx="3733920" cy="2516040"/>
          </a:xfrm>
          <a:prstGeom prst="rect">
            <a:avLst/>
          </a:prstGeom>
          <a:ln w="0">
            <a:noFill/>
          </a:ln>
          <a:effectLst>
            <a:outerShdw dist="52300" dir="836435" blurRad="0" rotWithShape="0">
              <a:srgbClr val="00cc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Air sports on the air</a:t>
            </a:r>
            <a:br>
              <a:rPr sz="3200"/>
            </a:b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FAI 2000’s TV production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World hang-gliding championship for women, June 00, Boeotia, Gree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uropean paragliding championship, July 00, Garmisch,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World aerobatics championship, August 00, Muret-Toulouse, F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Hot air balloon European championship, August 00, Luxembou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he world of aeromodelling, highlights on various championsh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5th World parachuting championship in style and accuracy, October 00, Jap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uropean paragliding championship, July 00, Garmisch,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019920" y="552600"/>
            <a:ext cx="1218960" cy="8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FAI 1999’s TV distribu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ctual programms sales (Nov 199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Europe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Asia &amp; Middle East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North America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Inflight vid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1447920" cy="765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143000" y="3657600"/>
            <a:ext cx="990720" cy="747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143000" y="4724280"/>
            <a:ext cx="990720" cy="755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2743200" y="4572000"/>
            <a:ext cx="1676520" cy="838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2666880" y="2743200"/>
            <a:ext cx="1800360" cy="6764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2590920" y="3657600"/>
            <a:ext cx="1904760" cy="692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705040" y="2424240"/>
            <a:ext cx="2317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7086600" y="2590920"/>
            <a:ext cx="1611360" cy="3897360"/>
            <a:chOff x="7086600" y="2590920"/>
            <a:chExt cx="1611360" cy="3897360"/>
          </a:xfrm>
        </p:grpSpPr>
        <p:pic>
          <p:nvPicPr>
            <p:cNvPr id="72" name="" descr=""/>
            <p:cNvPicPr/>
            <p:nvPr/>
          </p:nvPicPr>
          <p:blipFill>
            <a:blip r:embed="rId7"/>
            <a:stretch/>
          </p:blipFill>
          <p:spPr>
            <a:xfrm>
              <a:off x="7086600" y="2590920"/>
              <a:ext cx="1611360" cy="389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8"/>
            <a:stretch/>
          </p:blipFill>
          <p:spPr>
            <a:xfrm>
              <a:off x="7086600" y="2590920"/>
              <a:ext cx="1611360" cy="3897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4" name="" descr=""/>
          <p:cNvPicPr/>
          <p:nvPr/>
        </p:nvPicPr>
        <p:blipFill>
          <a:blip r:embed="rId9"/>
          <a:stretch/>
        </p:blipFill>
        <p:spPr>
          <a:xfrm>
            <a:off x="5410080" y="2819520"/>
            <a:ext cx="1371600" cy="657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0"/>
          <a:stretch/>
        </p:blipFill>
        <p:spPr>
          <a:xfrm>
            <a:off x="5486400" y="3809880"/>
            <a:ext cx="1295280" cy="8064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241960" y="2424240"/>
            <a:ext cx="180828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LU" sz="3200" spc="-1" strike="noStrike">
                <a:solidFill>
                  <a:srgbClr val="3333cc"/>
                </a:solidFill>
                <a:latin typeface="Arial"/>
              </a:rPr>
              <a:t>The Internet balloon.lu homepag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143000" y="1905120"/>
          <a:ext cx="683892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905120"/>
                    <a:ext cx="683892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1362240" y="1501920"/>
          <a:ext cx="6097320" cy="40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62240" y="1501920"/>
                    <a:ext cx="609732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838080" y="1828800"/>
            <a:ext cx="5943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12T11:33:26Z</dcterms:created>
  <dc:creator>Binsfeld Conseil</dc:creator>
  <dc:description/>
  <dc:language>en-US</dc:language>
  <cp:lastModifiedBy>sauber</cp:lastModifiedBy>
  <cp:lastPrinted>1999-12-27T17:36:52Z</cp:lastPrinted>
  <dcterms:modified xsi:type="dcterms:W3CDTF">1999-12-30T12:20:10Z</dcterms:modified>
  <cp:revision>58</cp:revision>
  <dc:subject/>
  <dc:title>LUXEMBOURG 2000</dc:title>
</cp:coreProperties>
</file>