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36DB6-06B1-4D06-A5B5-1DCD5A22D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1DC83-5F09-47CB-9FCB-8B58C2E1D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61FB5-8358-4FBF-A361-08F2D4969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A03C9-1CC9-42CD-8EFC-5E188B066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5B815-9A7E-4D20-8D8D-71E1BE89C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0D0D1-F4D8-4D84-982D-A2823C56A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D3E5C-01BD-4D59-A017-24ABF098C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0854A-D028-4BAF-8439-9BF6F712F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E98E9-C0BA-4351-BDFE-C1EF0B12E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37C51-A7F1-4147-9AB8-739615F43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1FDFE-B6A7-4B43-B050-345B80AD6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6442C-825D-442B-ACAE-8A1A913B8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E8169-07F9-47E9-8975-13E7A973C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FECDC-854D-4210-BF77-A00F4119B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3FF6A-EC5E-48FA-B579-CC2E0AD5A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3C027-6E29-4C39-BD0B-E7155D81C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6FBF7-8F87-499A-AED0-1AC5B4554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03DEA-47E2-485C-AF74-778FCC837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5E031-3E1E-4EC0-8F3D-F9A991443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509B5-18FE-4338-A712-C6D54D94A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48334-4FBE-450C-AC76-36706D962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40542-455E-4ED8-9F2B-608C5229E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7488A-7C45-4168-8EA2-D40348B27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22B90-4A74-46D0-B255-3293C999E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8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© 2008 by André-Netl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" name="Group 35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5BBD4-6FB5-4744-BCB6-A3707BA482D7}" type="datetime"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" name="Picture 45" descr="Netline"/>
          <p:cNvPicPr/>
          <p:nvPr/>
        </p:nvPicPr>
        <p:blipFill>
          <a:blip r:embed="rId2"/>
          <a:stretch/>
        </p:blipFill>
        <p:spPr>
          <a:xfrm>
            <a:off x="7908840" y="6364440"/>
            <a:ext cx="1127160" cy="377640"/>
          </a:xfrm>
          <a:prstGeom prst="rect">
            <a:avLst/>
          </a:prstGeom>
          <a:ln w="0">
            <a:noFill/>
          </a:ln>
        </p:spPr>
      </p:pic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901920" y="-5256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172C7-74CF-4DF0-9A77-2CC8DC8EB67B}" type="slidenum">
              <a:rPr b="0" lang="de-CH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24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3" name="Rectangle 2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6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Group 22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6" name="Rectangle 7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Rectangle 16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6" name="Picture 28" descr="Netline"/>
          <p:cNvPicPr/>
          <p:nvPr/>
        </p:nvPicPr>
        <p:blipFill>
          <a:blip r:embed="rId2"/>
          <a:stretch/>
        </p:blipFill>
        <p:spPr>
          <a:xfrm>
            <a:off x="6948360" y="6066000"/>
            <a:ext cx="2124360" cy="71100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56C82-FD75-429F-8B53-061E748C39AC}" type="slidenum">
              <a:rPr b="0" lang="de-CH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5000" spc="-1" strike="noStrike">
                <a:solidFill>
                  <a:srgbClr val="ffffff"/>
                </a:solidFill>
                <a:latin typeface="Arial Narrow"/>
              </a:rPr>
              <a:t>GPS Logger Project </a:t>
            </a:r>
            <a:endParaRPr b="0" lang="en-US" sz="50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09" name="Picture 7" descr="asog_event_partner_RVB"/>
          <p:cNvPicPr/>
          <p:nvPr/>
        </p:nvPicPr>
        <p:blipFill>
          <a:blip r:embed="rId1"/>
          <a:stretch/>
        </p:blipFill>
        <p:spPr>
          <a:xfrm>
            <a:off x="5003640" y="5977080"/>
            <a:ext cx="1833840" cy="76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8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© 2008 by André-Netl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B4758-4F3F-47F6-9FFB-FA5951530001}" type="datetime3">
              <a:rPr b="0" lang="en-GB" sz="800" spc="-1" strike="noStrike">
                <a:solidFill>
                  <a:srgbClr val="000000"/>
                </a:solidFill>
                <a:latin typeface="Arial"/>
              </a:rPr>
              <a:t>30 July 20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00"/>
                </a:solidFill>
                <a:latin typeface="Arial Narrow"/>
              </a:rPr>
              <a:t>Why new GPS Loggers?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Most current loggers are in bad condition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Improve ballooning competition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Virtual marker drop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Fly On task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top / reduce discussions about accuracy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tate of the art GPS technology (SiRF III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Pilot can view his logged position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Logger interval 1sec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implify logger handling in scoring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8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© 2008 by André-Netl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2FA75-C070-46F1-8510-8C2CFFCA0A8C}" type="datetime3">
              <a:rPr b="0" lang="en-GB" sz="800" spc="-1" strike="noStrike">
                <a:solidFill>
                  <a:srgbClr val="000000"/>
                </a:solidFill>
                <a:latin typeface="Arial"/>
              </a:rPr>
              <a:t>30 July 20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00"/>
                </a:solidFill>
                <a:latin typeface="Arial Narrow"/>
              </a:rPr>
              <a:t>Key features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Display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to view scored position (in UTM or Long/Lat) and altitude (in feet or meters)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Keypad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to enter Fly On goals or drop marker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USB-Port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to use logger as navigation device for the pilot’s laptop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D-Card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to store the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digitally signed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track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erial output for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telemetry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(live tracking/scoring)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iRF III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GPS technology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8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© 2008 by André-Netl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88BE2-652E-4EE6-9F69-9971F303C005}" type="datetime3">
              <a:rPr b="0" lang="en-GB" sz="800" spc="-1" strike="noStrike">
                <a:solidFill>
                  <a:srgbClr val="000000"/>
                </a:solidFill>
                <a:latin typeface="Arial"/>
              </a:rPr>
              <a:t>30 July 20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00"/>
                </a:solidFill>
                <a:latin typeface="Arial Narrow"/>
              </a:rPr>
              <a:t>Prototype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21" name="Picture 7" descr="Extracted2"/>
          <p:cNvPicPr/>
          <p:nvPr/>
        </p:nvPicPr>
        <p:blipFill>
          <a:blip r:embed="rId1"/>
          <a:stretch/>
        </p:blipFill>
        <p:spPr>
          <a:xfrm>
            <a:off x="611280" y="1989000"/>
            <a:ext cx="3633840" cy="3886200"/>
          </a:xfrm>
          <a:prstGeom prst="rect">
            <a:avLst/>
          </a:prstGeom>
          <a:ln w="0">
            <a:noFill/>
          </a:ln>
        </p:spPr>
      </p:pic>
      <p:sp>
        <p:nvSpPr>
          <p:cNvPr id="122" name="Line 10"/>
          <p:cNvSpPr/>
          <p:nvPr/>
        </p:nvSpPr>
        <p:spPr>
          <a:xfrm flipH="1">
            <a:off x="2843280" y="1268280"/>
            <a:ext cx="2016000" cy="792360"/>
          </a:xfrm>
          <a:prstGeom prst="line">
            <a:avLst/>
          </a:prstGeom>
          <a:ln w="12600">
            <a:solidFill>
              <a:srgbClr val="00007d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1"/>
          <p:cNvSpPr/>
          <p:nvPr/>
        </p:nvSpPr>
        <p:spPr>
          <a:xfrm flipH="1">
            <a:off x="1403280" y="1844640"/>
            <a:ext cx="3456000" cy="1655640"/>
          </a:xfrm>
          <a:prstGeom prst="line">
            <a:avLst/>
          </a:prstGeom>
          <a:ln w="12600">
            <a:solidFill>
              <a:srgbClr val="00007d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>
            <a:off x="2556000" y="2421000"/>
            <a:ext cx="2303280" cy="1152360"/>
          </a:xfrm>
          <a:prstGeom prst="line">
            <a:avLst/>
          </a:prstGeom>
          <a:ln w="12600">
            <a:solidFill>
              <a:srgbClr val="00007d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H="1">
            <a:off x="2484000" y="3573360"/>
            <a:ext cx="2374920" cy="1511280"/>
          </a:xfrm>
          <a:prstGeom prst="line">
            <a:avLst/>
          </a:prstGeom>
          <a:ln w="12600">
            <a:solidFill>
              <a:srgbClr val="00007d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15"/>
          <p:cNvSpPr/>
          <p:nvPr/>
        </p:nvSpPr>
        <p:spPr>
          <a:xfrm flipH="1">
            <a:off x="2050560" y="2997360"/>
            <a:ext cx="2808360" cy="1152360"/>
          </a:xfrm>
          <a:prstGeom prst="line">
            <a:avLst/>
          </a:prstGeom>
          <a:ln w="12600">
            <a:solidFill>
              <a:srgbClr val="00007d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16"/>
          <p:cNvSpPr/>
          <p:nvPr/>
        </p:nvSpPr>
        <p:spPr>
          <a:xfrm flipH="1">
            <a:off x="4140000" y="4149720"/>
            <a:ext cx="718920" cy="792000"/>
          </a:xfrm>
          <a:prstGeom prst="line">
            <a:avLst/>
          </a:prstGeom>
          <a:ln w="12600">
            <a:solidFill>
              <a:srgbClr val="00007d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7"/>
          <p:cNvSpPr/>
          <p:nvPr/>
        </p:nvSpPr>
        <p:spPr>
          <a:xfrm>
            <a:off x="4860720" y="1052640"/>
            <a:ext cx="23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SiRF III GPS Mod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8"/>
          <p:cNvSpPr/>
          <p:nvPr/>
        </p:nvSpPr>
        <p:spPr>
          <a:xfrm>
            <a:off x="4861800" y="1628640"/>
            <a:ext cx="14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SD-Card sl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20"/>
          <p:cNvSpPr/>
          <p:nvPr/>
        </p:nvSpPr>
        <p:spPr>
          <a:xfrm>
            <a:off x="4863240" y="2205000"/>
            <a:ext cx="162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4-lines 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21"/>
          <p:cNvSpPr/>
          <p:nvPr/>
        </p:nvSpPr>
        <p:spPr>
          <a:xfrm>
            <a:off x="4863240" y="2781360"/>
            <a:ext cx="246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AVR32 Micro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22"/>
          <p:cNvSpPr/>
          <p:nvPr/>
        </p:nvSpPr>
        <p:spPr>
          <a:xfrm>
            <a:off x="4861080" y="3357720"/>
            <a:ext cx="90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Batt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23"/>
          <p:cNvSpPr/>
          <p:nvPr/>
        </p:nvSpPr>
        <p:spPr>
          <a:xfrm>
            <a:off x="4862160" y="3933720"/>
            <a:ext cx="9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Keyp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24" descr="Extracted"/>
          <p:cNvPicPr/>
          <p:nvPr/>
        </p:nvPicPr>
        <p:blipFill>
          <a:blip r:embed="rId2"/>
          <a:stretch/>
        </p:blipFill>
        <p:spPr>
          <a:xfrm>
            <a:off x="6772320" y="3284640"/>
            <a:ext cx="2044800" cy="258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Footer Placeholder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8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© 2008 by André-Netl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Date Placeholder 6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3CA5A-272A-4475-A787-F3F0971336FB}" type="datetime3">
              <a:rPr b="0" lang="en-GB" sz="800" spc="-1" strike="noStrike">
                <a:solidFill>
                  <a:srgbClr val="000000"/>
                </a:solidFill>
                <a:latin typeface="Arial"/>
              </a:rPr>
              <a:t>30 July 20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00"/>
                </a:solidFill>
                <a:latin typeface="Arial Narrow"/>
              </a:rPr>
              <a:t>Progress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Discussions at CIA Conference 2007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Lots of talks in summer 2007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ystem design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Prototype development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ested different GPS receivers (approx. 20 flights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GPS logger report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Looking for a production partner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39" name="Picture 7" descr="IMG_0805"/>
          <p:cNvPicPr/>
          <p:nvPr/>
        </p:nvPicPr>
        <p:blipFill>
          <a:blip r:embed="rId1"/>
          <a:stretch/>
        </p:blipFill>
        <p:spPr>
          <a:xfrm>
            <a:off x="5003640" y="4005360"/>
            <a:ext cx="3265560" cy="21762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1" descr="IMG_0726"/>
          <p:cNvPicPr/>
          <p:nvPr/>
        </p:nvPicPr>
        <p:blipFill>
          <a:blip r:embed="rId2"/>
          <a:stretch/>
        </p:blipFill>
        <p:spPr>
          <a:xfrm>
            <a:off x="5364000" y="692280"/>
            <a:ext cx="252900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8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© 2008 by André-Netl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F1E08-AB5C-4ED1-B597-6771924B4B78}" type="datetime3">
              <a:rPr b="0" lang="en-GB" sz="800" spc="-1" strike="noStrike">
                <a:solidFill>
                  <a:srgbClr val="000000"/>
                </a:solidFill>
                <a:latin typeface="Arial"/>
              </a:rPr>
              <a:t>30 July 20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00"/>
                </a:solidFill>
                <a:latin typeface="Arial Narrow"/>
              </a:rPr>
              <a:t>Cost / Production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0000"/>
                </a:solidFill>
                <a:latin typeface="Arial Narrow"/>
              </a:rPr>
              <a:t>Production partner not yet defined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0000"/>
                </a:solidFill>
                <a:latin typeface="Arial Narrow"/>
              </a:rPr>
              <a:t>Cost per device estimation: 600 - 1000 €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0000"/>
                </a:solidFill>
                <a:latin typeface="Arial Narrow"/>
              </a:rPr>
              <a:t>Build at least 100 devices as soon as possible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8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© 2008 by André-Netl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3CA6A-6607-4E83-A047-DEA6BAEC1BC3}" type="datetime3">
              <a:rPr b="0" lang="en-GB" sz="800" spc="-1" strike="noStrike">
                <a:solidFill>
                  <a:srgbClr val="000000"/>
                </a:solidFill>
                <a:latin typeface="Arial"/>
              </a:rPr>
              <a:t>30 July 20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00"/>
                </a:solidFill>
                <a:latin typeface="Arial Narrow"/>
              </a:rPr>
              <a:t>Next steps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Decide on financing model / find investor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Build a second prototype based on custom electronics and chassis until June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Test in several event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Production of series zero after summer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More units available by summer 2009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Timetable is depends on financing solution!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5000" spc="-1" strike="noStrike">
                <a:solidFill>
                  <a:srgbClr val="ffffff"/>
                </a:solidFill>
                <a:latin typeface="Arial Narrow"/>
              </a:rPr>
              <a:t>Backup</a:t>
            </a:r>
            <a:endParaRPr b="0" lang="en-US" sz="5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8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© 2008 by André-Netl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303A4-2585-49BD-A936-5C513FFA687C}" type="datetime3">
              <a:rPr b="0" lang="en-GB" sz="800" spc="-1" strike="noStrike">
                <a:solidFill>
                  <a:srgbClr val="000000"/>
                </a:solidFill>
                <a:latin typeface="Arial"/>
              </a:rPr>
              <a:t>30 July 20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00"/>
                </a:solidFill>
                <a:latin typeface="Arial Narrow"/>
              </a:rPr>
              <a:t>About André-Netline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Lukas André, MSc BA Uni Bern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Marc André, MSc ETH EE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André-Netline has been developing custom software for more than 10 years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Experienced in ballooning competition as team member and scoring officials (national and international)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5T13:07:08Z</dcterms:created>
  <dc:creator>Lukas André</dc:creator>
  <dc:description/>
  <dc:language>en-US</dc:language>
  <cp:lastModifiedBy>Claude Weber</cp:lastModifiedBy>
  <dcterms:modified xsi:type="dcterms:W3CDTF">2008-03-07T10:58:15Z</dcterms:modified>
  <cp:revision>60</cp:revision>
  <dc:subject/>
  <dc:title>In and ou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6</vt:r8>
  </property>
</Properties>
</file>